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804D-2F7E-4A85-914B-845492F67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5387-4192-4F88-98D7-FF8EFF39E5D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DB13-B5E6-424B-9517-B6D06FCA9C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0E85-4C88-4367-A583-DF0803F5834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7073-16A4-4B8E-BD44-A78C8D77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B62F-B367-4C68-A4C8-6F4DCDFC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CF86-696A-40EE-A497-29825603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CDAA-02F0-4918-A4B2-56A4EF81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4EE5-82DF-4B98-9A16-BB5250C0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ADFB-37B4-4D67-BA12-6DCC8D17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044A-AF5B-49A7-82B5-37A78C70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6CCC-06DE-4A61-9BE9-5CD1B994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46AC-72F7-4A38-B522-9659DE24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B9A5-E9D1-44A3-B8AA-6E4485F5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848C-0016-4F14-8EC7-5F9C3EDE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4F3E-6E14-41A1-B5BB-28AF40B0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48AF-3EF8-466C-B363-845758B8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590B-94E0-449B-9A3C-DAF87B9B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DC8D-C2B4-41A6-816C-A3653B8C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FFDD-2777-41B2-80A4-EA61FD6F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5790-7C76-4015-91F7-157C89F1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B269F-61AE-447A-9D21-107440D5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BD4B9-A7E2-4B57-A6A2-A31F7275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FF4A0-0DD7-4F78-B709-E7D00F1F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CB010-65D2-471A-9647-E638FA86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53349-17DD-4300-9B83-3661A8D0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8AC0-73D9-4A70-AAD0-4A442E01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6DD64-BC74-47C2-A0E3-7B5CD257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AF02C-DCF5-4F20-8F27-31000713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80388-37F6-4052-896F-E6A4BA21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16514-2668-45D9-B174-7EDB6E60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BB0CC-3BF4-4599-9D03-F1DA2406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52984-88C6-4B63-A9DA-4A94581E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84B18-6530-4A0F-A489-A7501CE2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3A35A-B441-4724-8F65-F65F943C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A6CA0-740F-4E36-AE32-FF3DE79B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35218-B1D4-48BB-8BE6-04DC14BA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99CD-BBB6-4545-BE56-5169AD5F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59E54-9543-4B4C-8456-8C57587E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8946F-DA28-4583-ADE5-AD615032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46100-7CC5-4C36-8326-45426FAB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F2499-13E7-440B-89DB-FCB3FA13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11144-AFD8-4F3C-A55B-8321E5FA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49378-E1B3-4BBB-9E50-A8F2EB8E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70393-7A85-4A67-A620-2F9628B3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801E9-1271-4053-AE56-45A90419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3B62B-2E98-44DE-BFF7-9D502801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B3BEF-02DA-464B-8EA2-08502A11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A3F2-7402-4FB0-BDD0-86A97A17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7D482-7763-44AF-B019-A614CB84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FAA6F-51CF-4CA6-B8F7-C0991BC1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1CF26-EDD2-4AD5-B490-F0DC0A0F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E6925-E97F-4C80-8FB0-11C6DA3D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A556A-9D10-4D65-AF66-9F3A99B3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FA027-217E-4A24-9D23-51A52305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67C83-FD11-45D8-940C-6DE10515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49E29-B4FD-4073-84AD-DF11B1D9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7E101-1100-48FF-8429-BAF4191C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A38DC-5E3A-40DC-BA9C-527C09CD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4CD6-950B-442A-8D51-77397C67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E3449-AD5F-4E9C-BA6C-1DE1B2A8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764B-494C-4909-B5E4-4EC8D0B4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F632-A71B-456C-B285-B227125E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0096-4035-481F-92E7-6642F1B0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CAB4-F7A1-4472-B5BA-97145FA1C29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DDE8-7696-4D2E-920B-536868698F7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AFDC-4D2E-44B7-B130-FF81027254D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2165-D95E-4561-A28A-2E17F2911BB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F08B-8694-4FEA-9A9A-C97C4B2C911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47636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Verdana"/>
              </a:rPr>
              <a:t>NEONATALNE KONVULZIJ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3429000" y="3429000"/>
            <a:ext cx="50720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Zoran Igrutinovi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Medicinski fakult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Klinika za pedijatrij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Kragujeva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Picture 8" descr=""/>
          <p:cNvPicPr/>
          <p:nvPr/>
        </p:nvPicPr>
        <p:blipFill>
          <a:blip r:embed="rId1"/>
          <a:stretch/>
        </p:blipFill>
        <p:spPr>
          <a:xfrm>
            <a:off x="1000080" y="4000680"/>
            <a:ext cx="1085760" cy="116496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5"/>
          <p:cNvGrpSpPr/>
          <p:nvPr/>
        </p:nvGrpSpPr>
        <p:grpSpPr>
          <a:xfrm>
            <a:off x="857160" y="2143080"/>
            <a:ext cx="1440000" cy="1368360"/>
            <a:chOff x="857160" y="2143080"/>
            <a:chExt cx="1440000" cy="1368360"/>
          </a:xfrm>
        </p:grpSpPr>
        <p:sp>
          <p:nvSpPr>
            <p:cNvPr id="231" name="Oval 6"/>
            <p:cNvSpPr/>
            <p:nvPr/>
          </p:nvSpPr>
          <p:spPr>
            <a:xfrm>
              <a:off x="857160" y="2143080"/>
              <a:ext cx="1440000" cy="135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32" name="Picture 7" descr="viewer 1"/>
            <p:cNvPicPr/>
            <p:nvPr/>
          </p:nvPicPr>
          <p:blipFill>
            <a:blip r:embed="rId2"/>
            <a:stretch/>
          </p:blipFill>
          <p:spPr>
            <a:xfrm>
              <a:off x="857160" y="2143080"/>
              <a:ext cx="1440000" cy="136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00040" y="928800"/>
            <a:ext cx="8183520" cy="492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99ffcc"/>
                </a:solidFill>
                <a:latin typeface="Verdana"/>
              </a:rPr>
              <a:t>DIJAGNOZ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ora se sprovesti brzo zbog oboljenja koja zahtevaju urgentnu terapiju (meningitis, metabolički poremećaj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Od velike su važnosti anamnestički podaci o toku trudnoće i porodjaja, kao i objektivni neuropedijatrijski pregl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Biohemijska ispitivanja (glikemija, elektrolit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Lumbalna punkci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Ultrazvučni pregled mozg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Kod 10-30% slučajeva etiologija ostaje nepozn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68360" y="980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99ffcc"/>
                </a:solidFill>
                <a:latin typeface="Verdana"/>
              </a:rPr>
              <a:t>Akutna terapija neonatalnih konvulz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Hipoglikemija: glukoza 25% 2ml/kg (0,5 g/kg) i.v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Bez hipoglikemije: Ca glukonat, 5% solucija 4ml/kg i.v.; magnezijum sulfat 50% solucija 0,1-0,2 ml/kg i.m.; piridoksin 50-100 mg, i.v.; phenobarbiton 15-20 mg/kg i.v. ili i.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Po potrebi fenobarbiton može da se ponovi u dozi 5-20 mg/kg, ali u ukupnoj dozi do 40 mg/k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Za održavanja antikonvulzivnog efekta primenjuje se phenobarbiton u dozi 3-6 mg/kg/dan/2 do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Rizik za pojavu epilepsije kod dece sa HIE je 30%, a kod razvojnih anomalija mozga skoro 10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Konvulzije usled hipoglikemije ili hipokalcemije ne povećavaju rizik za kasniju pojavu epilepsi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68360" y="1197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Verdana"/>
              </a:rPr>
              <a:t>Prognoza neonatalnih konvulzija u odnosu na etiologiju (procenat normalnog psihomotornog razvoj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Hipoksično-ishemična encefalopatija   5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Intraventrikularna hemoragija            1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Primarna subarahnoidalna hemoragija 9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Hipokalcemija – rana                         5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Hipokalcemija – kasna                      10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Hipoglikemija                                    5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Bakterijski meningitis                         5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Razvojne anomalije mozga                   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Benigne familijarne konvulzije             95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6836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sr-Latn-CS" sz="4800" spc="-1" strike="noStrike">
                <a:solidFill>
                  <a:srgbClr val="0070c0"/>
                </a:solidFill>
                <a:latin typeface="Verdana"/>
              </a:rPr>
              <a:t>FEBRILNE KONVULZIJE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Verdana"/>
              </a:rPr>
              <a:t>Jedan od najčešćih neuroloških poremećaja male de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Verdana"/>
              </a:rPr>
              <a:t>FK- Konvulzije koje nastaju pri povišenoj temperaturi u toku akutnih infekcija koje primarno ne zahvataju C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Verdana"/>
              </a:rPr>
              <a:t>Najćešće su akutne infekcije gornjih respiratornih puteva, redje urinarne ili gastrointestinal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Verdana"/>
              </a:rPr>
              <a:t>Genetska ispitivanja su pokazala da postoji porodična predispozicija prema febrilnim konvulzijama, odnosno familijarno snižen konvulzivni pra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8" descr="termo-ok"/>
          <p:cNvPicPr/>
          <p:nvPr/>
        </p:nvPicPr>
        <p:blipFill>
          <a:blip r:embed="rId1"/>
          <a:stretch/>
        </p:blipFill>
        <p:spPr>
          <a:xfrm>
            <a:off x="571680" y="3786120"/>
            <a:ext cx="1631880" cy="228600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247" name="Picture 9" descr="rocket"/>
          <p:cNvPicPr/>
          <p:nvPr/>
        </p:nvPicPr>
        <p:blipFill>
          <a:blip r:embed="rId2"/>
          <a:stretch/>
        </p:blipFill>
        <p:spPr>
          <a:xfrm>
            <a:off x="3286080" y="3786120"/>
            <a:ext cx="1984320" cy="228600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248" name="Picture 7" descr="brain-zraci"/>
          <p:cNvPicPr/>
          <p:nvPr/>
        </p:nvPicPr>
        <p:blipFill>
          <a:blip r:embed="rId3"/>
          <a:stretch/>
        </p:blipFill>
        <p:spPr>
          <a:xfrm>
            <a:off x="6143760" y="3786120"/>
            <a:ext cx="2500200" cy="227988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249" name="AutoShape 10"/>
          <p:cNvSpPr/>
          <p:nvPr/>
        </p:nvSpPr>
        <p:spPr>
          <a:xfrm>
            <a:off x="2000160" y="5500800"/>
            <a:ext cx="1524240" cy="457200"/>
          </a:xfrm>
          <a:custGeom>
            <a:avLst/>
            <a:gdLst>
              <a:gd name="textAreaLeft" fmla="*/ 190440 w 1524240"/>
              <a:gd name="textAreaRight" fmla="*/ 1333800 w 15242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d1503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AutoShape 10"/>
          <p:cNvSpPr/>
          <p:nvPr/>
        </p:nvSpPr>
        <p:spPr>
          <a:xfrm>
            <a:off x="4929120" y="4214880"/>
            <a:ext cx="1524240" cy="457200"/>
          </a:xfrm>
          <a:custGeom>
            <a:avLst/>
            <a:gdLst>
              <a:gd name="textAreaLeft" fmla="*/ 190440 w 1524240"/>
              <a:gd name="textAreaRight" fmla="*/ 1333800 w 15242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d1503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12aa"/>
          <p:cNvPicPr/>
          <p:nvPr/>
        </p:nvPicPr>
        <p:blipFill>
          <a:blip r:embed="rId1"/>
          <a:stretch/>
        </p:blipFill>
        <p:spPr>
          <a:xfrm>
            <a:off x="0" y="-163440"/>
            <a:ext cx="9144000" cy="71848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3"/>
          <p:cNvSpPr/>
          <p:nvPr/>
        </p:nvSpPr>
        <p:spPr>
          <a:xfrm>
            <a:off x="3114720" y="382680"/>
            <a:ext cx="27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INCIDENC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1825200" y="4732200"/>
            <a:ext cx="567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2-5% dece mlađe od 5 godina ima F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Učestalost FK je najčešća 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žute rase (7%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zatim crne (4.2%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a najređa u bele (3.5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Picture 15" descr="Globus - ok"/>
          <p:cNvPicPr/>
          <p:nvPr/>
        </p:nvPicPr>
        <p:blipFill>
          <a:blip r:embed="rId2"/>
          <a:stretch/>
        </p:blipFill>
        <p:spPr>
          <a:xfrm>
            <a:off x="1981080" y="1523880"/>
            <a:ext cx="5181840" cy="292896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255" name="AutoShape 16"/>
          <p:cNvSpPr/>
          <p:nvPr/>
        </p:nvSpPr>
        <p:spPr>
          <a:xfrm>
            <a:off x="3657600" y="2108160"/>
            <a:ext cx="1676520" cy="457200"/>
          </a:xfrm>
          <a:prstGeom prst="flowChartTerminator">
            <a:avLst/>
          </a:prstGeom>
          <a:solidFill>
            <a:srgbClr val="fd1503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3972240" y="205740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imes New Roman"/>
              </a:rPr>
              <a:t>2-5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12aa"/>
          <p:cNvPicPr/>
          <p:nvPr/>
        </p:nvPicPr>
        <p:blipFill>
          <a:blip r:embed="rId1"/>
          <a:stretch/>
        </p:blipFill>
        <p:spPr>
          <a:xfrm>
            <a:off x="0" y="-163440"/>
            <a:ext cx="9144000" cy="71848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3"/>
          <p:cNvSpPr/>
          <p:nvPr/>
        </p:nvSpPr>
        <p:spPr>
          <a:xfrm>
            <a:off x="2615400" y="382680"/>
            <a:ext cx="43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NASLEDJIVANJE F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380880" y="1381320"/>
            <a:ext cx="89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*učestalost FK među članovima už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porodice propozitusa iznosi 10-31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*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poligenski multifaktorijalni način nasleđivanja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: pri čemu jedan ili više gena u interakciji sa faktorima spoljne sredine uslovljavaju nastanak F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0" name="Picture 5" descr="porodica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676520" y="4114800"/>
            <a:ext cx="2514600" cy="243828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261" name="AutoShape 6"/>
          <p:cNvSpPr/>
          <p:nvPr/>
        </p:nvSpPr>
        <p:spPr>
          <a:xfrm>
            <a:off x="2438280" y="4191120"/>
            <a:ext cx="838440" cy="406440"/>
          </a:xfrm>
          <a:prstGeom prst="flowChartTerminator">
            <a:avLst/>
          </a:prstGeom>
          <a:solidFill>
            <a:srgbClr val="fd1503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2518200" y="419112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8" descr="bebe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4419720" y="4724280"/>
            <a:ext cx="3017880" cy="185256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264" name="AutoShape 9"/>
          <p:cNvSpPr/>
          <p:nvPr/>
        </p:nvSpPr>
        <p:spPr>
          <a:xfrm>
            <a:off x="5562720" y="6095880"/>
            <a:ext cx="838080" cy="406440"/>
          </a:xfrm>
          <a:prstGeom prst="flowChartTerminator">
            <a:avLst/>
          </a:prstGeom>
          <a:solidFill>
            <a:srgbClr val="fd1503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5642280" y="609588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Najčešće se ispoljavaju u uzrastu 6 meseci do 3 god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Obično se javljaju prvog dana bolesti, a nekad su i prvi znak febrilno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Telesna temperatura je uvek iznad 38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5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najniže 37,8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Konvulzije su obično generalizovane tonično-klonične (80%), redje fokalne ili unilateralne (3-29%), ponekad u vidu opšte mlitavosti (4-9%) ili ukočeno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Traju najčešće nekoliko minuta, redje do pola sata, a izuzetno i duž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Klinički oporavak posle prestanka febrilnih konvulzija najčešće je brz i potpu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6836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Febrilne konvulzije mogu biti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Tipič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Atipič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66"/>
                </a:solidFill>
                <a:latin typeface="Verdana"/>
              </a:rPr>
              <a:t>Atipične febrilne konvulzij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Pojava konvulzija pre prve i posle pete godi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Trajanje duže od 15 minu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Dva ili više konvulzivna ataka pri istoj febrilno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Tri ili više napada febrilnih konvulzija u različitim febrilnim stanji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Deca sa atipičnim febrilnim konvulzijama imaju predispoziciju za epilepsij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2876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učestalost 1,5-14 / 1000 porodja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klinička prezentacija različita u odnosu na odraslu decu ( mijelinizacija se tek razvija, sinapse nisu dovoljno razvijene, početak je većinom u moždanom stablu sa slabom propagacijom prema korteksu, pražnjenja u korteksu ostaju lokalizovana zbog slabo razvijenih sinaps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12aa"/>
          <p:cNvPicPr/>
          <p:nvPr/>
        </p:nvPicPr>
        <p:blipFill>
          <a:blip r:embed="rId1"/>
          <a:stretch/>
        </p:blipFill>
        <p:spPr>
          <a:xfrm>
            <a:off x="0" y="-163440"/>
            <a:ext cx="9144000" cy="71848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3"/>
          <p:cNvSpPr/>
          <p:nvPr/>
        </p:nvSpPr>
        <p:spPr>
          <a:xfrm>
            <a:off x="2250360" y="1800"/>
            <a:ext cx="414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ahoma"/>
              </a:rPr>
              <a:t>KLASIFIKACIJA F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762120" y="1285920"/>
          <a:ext cx="7772400" cy="4722840"/>
        </p:xfrm>
        <a:graphic>
          <a:graphicData uri="http://schemas.openxmlformats.org/drawingml/2006/table">
            <a:tbl>
              <a:tblPr/>
              <a:tblGrid>
                <a:gridCol w="2247840"/>
                <a:gridCol w="2820960"/>
                <a:gridCol w="2703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BELEŽ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IPIČ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TIPIČ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uzr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od 6 meseci do 5 god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pre 6 meseci i posle 5 god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tip nap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generalizovani nap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parcijalni (fokaln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trajanje nap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do 15 mi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duže od 15 min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broj nap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jedan u toku iste febri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2 ili više u toku iste feb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prethodni poda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bez oštećenja CNS-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stečene lezije C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klinički 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uredan pre nap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RPM, DCO pre prvog nap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postiktualni 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Cooper Bold YU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brz oporavak i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blaga somnolenc. i konfu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Cooper Bold YU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poriji oporava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(Todd-ova paraliz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2240">
                      <a:solidFill>
                        <a:srgbClr val="ffffcc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EEG nala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cc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normalan interiktal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izmenjen, prethodna lez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recidi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ne više od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3 i viš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učestal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8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porodična anamne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b.o. ili podaci o tipičnim F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pojava atipičnih FK i E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66"/>
                </a:solidFill>
                <a:latin typeface="Verdana"/>
              </a:rPr>
              <a:t>Dijagnoza se postavlja na osnovu sledećih postupaka: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Iscrpni anamnestički podaci o izgledu napada, dotadašnjem razvoju i oboljenjima deteta, kao i heredodegenerativnim bolestima u porodic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Kompletan pedijatrijski i neurološki preg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Laboratorijske analize: SE, KKS, urin, ureja, kreatinin, glikemija, jonogram, Ca, P, alkalna fosfataza, transamina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Eventualno pregled očnog dana i lumbalna punkci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EEG se radi kod atipičnih konvulzija 10 dana po normalizaciji tempera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4" descr="EEG"/>
          <p:cNvPicPr/>
          <p:nvPr/>
        </p:nvPicPr>
        <p:blipFill>
          <a:blip r:embed="rId1"/>
          <a:stretch/>
        </p:blipFill>
        <p:spPr>
          <a:xfrm>
            <a:off x="5643720" y="4429080"/>
            <a:ext cx="1904760" cy="142884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57120" y="2000160"/>
            <a:ext cx="832968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EEG tokom prve nedelje nakon napada</a:t>
            </a:r>
            <a:br>
              <a:rPr sz="2000"/>
            </a:b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- normalan nalaz u 50-71% dece (Rodžer 1985.)</a:t>
            </a:r>
            <a:br>
              <a:rPr sz="2000"/>
            </a:b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- spora aktivnost najčešće obostrana u 20-33%</a:t>
            </a:r>
            <a:br>
              <a:rPr sz="2000"/>
            </a:b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- epileptiformna pražnjenja (ŠTK) su retka </a:t>
            </a:r>
            <a:br>
              <a:rPr sz="2000"/>
            </a:br>
            <a:r>
              <a:rPr b="1" lang="en-US" sz="2000" spc="-1" strike="noStrike">
                <a:solidFill>
                  <a:srgbClr val="771f28"/>
                </a:solidFill>
                <a:latin typeface="Verdana"/>
              </a:rPr>
              <a:t> </a:t>
            </a:r>
            <a:br>
              <a:rPr sz="2000"/>
            </a:br>
            <a:r>
              <a:rPr b="1" lang="en-US" sz="2000" spc="-1" strike="noStrike">
                <a:solidFill>
                  <a:srgbClr val="771f28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EEG nalazi neposredno posle FK ne mogu da služe</a:t>
            </a:r>
            <a:br>
              <a:rPr sz="2000"/>
            </a:b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- kao prognostički faktor za kasniju EPI</a:t>
            </a:r>
            <a:br>
              <a:rPr sz="2000"/>
            </a:b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- niti su bitan kriterijum za profilaksu</a:t>
            </a:r>
            <a:br>
              <a:rPr sz="2000"/>
            </a:b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(Marjanović 1997., Martinović 1997.)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928800" y="1000080"/>
            <a:ext cx="70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ahoma"/>
              </a:rPr>
              <a:t>EEG NALAZ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6" name="Picture 5" descr="EPI - general tonicno klonicna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929200" y="1000080"/>
            <a:ext cx="1440000" cy="190512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6836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66"/>
                </a:solidFill>
                <a:latin typeface="Verdana"/>
              </a:rPr>
              <a:t>Diferencijalna dijagnoza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Zapaljenje mozga ili moždanica (meningitis, encefalitis, apsces mozg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Metabolički poremećaji (hipoglikemija, hipokalcemija, hipomagnezemija, deficit piridoksin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66"/>
                </a:solidFill>
                <a:latin typeface="Verdana"/>
              </a:rPr>
              <a:t>Lečen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Verdana"/>
              </a:rPr>
              <a:t>Akutni napad febrilnih konvulzija koji kratko traje ne zahteva lečenje, spontano prolazi, potrebno je obarati temperaturu i lečiti infekciju (90%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Verdana"/>
              </a:rPr>
              <a:t>Napadi koji traju duže od 30min mogu oštetiti mozak i moraju se prekinut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Verdana"/>
              </a:rPr>
              <a:t>Pri napadu dužeg trajanja lečenje je isto kao kod drugih konvulzivnih status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pre primene medikamenata treba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      </a:t>
            </a: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- obezbediti prohodne disajne puteve (zalogaj, igračka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771f28"/>
                </a:solidFill>
                <a:latin typeface="Verdana"/>
              </a:rPr>
              <a:t> </a:t>
            </a: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     </a:t>
            </a: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- dete u bočni položaj sa glavom niže od tela (aspiracija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      </a:t>
            </a: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- rashlađivanje (kuća ili dispanzer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771f28"/>
                </a:solidFill>
                <a:latin typeface="Verdana"/>
              </a:rPr>
              <a:t> </a:t>
            </a: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primena benzodijazepinskih preparata (rektalno, ili i.m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771f28"/>
                </a:solidFill>
                <a:latin typeface="Verdana"/>
              </a:rPr>
              <a:t> </a:t>
            </a: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u slučaju neefikasnosti lekova hitan transport u ustanovu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      </a:t>
            </a: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u kojoj se leči epileptični status i sprovodi reanimacij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28400" y="529920"/>
            <a:ext cx="8258040" cy="532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DIAZEPAM rektalno 0,5mg/kg (klizma ili rastvo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održavanje prolaznosti disajnih pute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rashlađivan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ako napad ne prestaj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Fenobarbiton i.v. 20mg/kg (brz. od 1mg/kg/mi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Fenitoin i.v. 15-20mg/kg (brz. od 1mg/kg/mi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Manitol 20% i.v. 0,5g/kg (antiedematozna terapija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U kućnim i dispanzerskim uslovima najracionalni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je rektalna primena leka, tzv.”neprofesionalna iv linija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(Knudsen 1988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DIAZEPAM rektalno 0,5mg/kg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- maksimalna pojedinačna doza 20mg (Graves 1987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- posle klizme terapijski nivo u krvi za </a:t>
            </a:r>
            <a:r>
              <a:rPr b="1" lang="sr-Latn-CS" sz="2600" spc="-1" strike="noStrike">
                <a:solidFill>
                  <a:srgbClr val="000000"/>
                </a:solidFill>
                <a:latin typeface="Verdana"/>
              </a:rPr>
              <a:t>2-5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minu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- a održava se tokom sledećih </a:t>
            </a:r>
            <a:r>
              <a:rPr b="1" lang="sr-Latn-CS" sz="2600" spc="-1" strike="noStrike">
                <a:solidFill>
                  <a:srgbClr val="000000"/>
                </a:solidFill>
                <a:latin typeface="Verdana"/>
              </a:rPr>
              <a:t>3-6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čas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5" descr="diazrett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643120" y="4500720"/>
            <a:ext cx="3200400" cy="18777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82" name="Freeform 7"/>
          <p:cNvSpPr/>
          <p:nvPr/>
        </p:nvSpPr>
        <p:spPr>
          <a:xfrm>
            <a:off x="3929040" y="5143680"/>
            <a:ext cx="1295280" cy="6220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3778200" y="5929200"/>
            <a:ext cx="843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5 </a:t>
            </a:r>
            <a:r>
              <a:rPr b="0" lang="sr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мин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MIDAZOLAM (FLORMIDAL) i.m. 0,2mg/k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- maksimalna pojedinačna doza 5m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- posle i.m. ili i.v. primen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terapijski nivo za 1,5-5 minu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- antikonvulzivni efekat traje 1-5 čas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6" descr="diazrett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857680" y="4500720"/>
            <a:ext cx="3200400" cy="18777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86" name="Freeform 8"/>
          <p:cNvSpPr/>
          <p:nvPr/>
        </p:nvSpPr>
        <p:spPr>
          <a:xfrm>
            <a:off x="4143240" y="5143680"/>
            <a:ext cx="1219320" cy="685800"/>
          </a:xfrm>
          <a:prstGeom prst="pie">
            <a:avLst/>
          </a:prstGeom>
          <a:noFill/>
          <a:ln w="57240">
            <a:solidFill>
              <a:srgbClr val="00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633840" y="5929200"/>
            <a:ext cx="12398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1,5-5 </a:t>
            </a:r>
            <a:r>
              <a:rPr b="0" lang="sr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мин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Prekid napada FK u hospitalnim uslovi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AZEPAM i.v.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0,25mg/kg početna doza (ponoviti za 10 min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0,40mg/kg (ako napad ne prođe za 10-15 min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0,50mg/kg (primeniti druge lekov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Marjanović 1997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14" descr="IV dete ok"/>
          <p:cNvPicPr/>
          <p:nvPr/>
        </p:nvPicPr>
        <p:blipFill>
          <a:blip r:embed="rId1"/>
          <a:stretch/>
        </p:blipFill>
        <p:spPr>
          <a:xfrm>
            <a:off x="2895480" y="4419720"/>
            <a:ext cx="4140360" cy="180324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290" name="Rectangle 4"/>
          <p:cNvSpPr/>
          <p:nvPr/>
        </p:nvSpPr>
        <p:spPr>
          <a:xfrm>
            <a:off x="857160" y="4929120"/>
            <a:ext cx="21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771f28"/>
                </a:solidFill>
                <a:latin typeface="Arial"/>
                <a:ea typeface="Times New Roman"/>
              </a:rPr>
              <a:t>I.V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771f28"/>
                </a:solidFill>
                <a:latin typeface="Arial"/>
                <a:ea typeface="Times New Roman"/>
              </a:rPr>
              <a:t>prim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66"/>
                </a:solidFill>
                <a:latin typeface="Verdana"/>
              </a:rPr>
              <a:t>Prevencija FK se sprovodi samo kod atipičnih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Kontinuirana profilaksa(Phenobarbiton 3-6 mg/kg uveče, ili Na-valproat 20-30mg/kg u 2 doz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Diskontinuirana profilaksa ( Diazepam 5 mg per recti na 8-12h pri povišenoj temperatutr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Dužina profilakse: 30 meseci (Fishman 1979.), 12-18 meseci ili najduže do 3. godine života (Knudsen 1989.), 18 meseci od zadnjeg napada ili najduže do 6. godina (Martinović 1997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68360" y="1125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800" spc="-1" strike="noStrike">
                <a:solidFill>
                  <a:srgbClr val="99ffcc"/>
                </a:solidFill>
                <a:latin typeface="Verdana"/>
              </a:rPr>
              <a:t>Etiologija neonatalnih konvulz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Hipoksično- ishemična encefalopati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Intrakranijalna hemoragi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Elektrolitni poremećaji ( hipo Ca, hipo Mg, hipo Na, hiper N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Hipoglikemi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Infekcije CNS: intrauterine (citomegalovirus, rubella, toxoplazma) , perinatalne (bakterijski meningitis, herpes simplex encephalitis, seps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Urodjeni poremećaji metaboliz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Razvojne anomalije mozg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Benigne familijarne neonatalne konvulzi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sr-Latn-CS" sz="4400" spc="-1" strike="noStrike">
                <a:solidFill>
                  <a:srgbClr val="323232"/>
                </a:solidFill>
                <a:latin typeface="Verdana"/>
              </a:rPr>
              <a:t>EPILEPSIJ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Epilepsija je hronična bolest koju karakterišu nagle, prolazne i rekurentne paroksizmalne pojave (motorne, senzitivne, psihosenzitivne ili vegetativne), najčešće uz gubitak sve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INCIDENCA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BROJ NOVIH SLUČAJEVA EPI </a:t>
            </a: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J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30-50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 100000 LjUDI GODI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N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PREVALENC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BROJ UKUPNO OBOLELE DECE JE</a:t>
            </a: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 0.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4-0.8</a:t>
            </a: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%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sr-Latn-CS" sz="2800" spc="-1" strike="noStrike">
                <a:solidFill>
                  <a:srgbClr val="0070c0"/>
                </a:solidFill>
                <a:latin typeface="Verdana"/>
              </a:rPr>
              <a:t>ETIOLOG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a)  Idiopats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b)  Simptomats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70c0"/>
                </a:solidFill>
                <a:latin typeface="Verdana"/>
              </a:rPr>
              <a:t>Idiopatska epilepsija kao moguće uzroke može imat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Nasledje (interreakcija jednog ili više gena i faktora sredi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Diskretne neuropatološke prome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Promene u metabolizmu neurona i neurotransmitera (poremećaj ravnoteže izmedju intra i ekstraćelijskih jona i različitih inhibitornih i ekscitatornih aminokiselina i neurotransmiter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Elektrofiziološke promene na nivou neurona i grupe neuro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70c0"/>
                </a:solidFill>
                <a:latin typeface="Verdana"/>
              </a:rPr>
              <a:t>Simptomatska epilepsija je posledic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Cerebralne porodjajne traume (43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Kongenitalnog oštećenja mozga (40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Cirkulatornih moždanih poremećaja (7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Povreda gla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Infekcije mozga i moždan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Tumora mozg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Sistemskih bolesti (fakomatoze i dr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70c0"/>
                </a:solidFill>
                <a:latin typeface="Verdana"/>
              </a:rPr>
              <a:t>Precipitirajući faktori epilepsij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Infekcija i povišena temperatu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Umor i nespavan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Hiperventilacija i alkaloz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Emoci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Gledanje televizije, rad na računaru i s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Lekovi (izoniazid, penicilin, aminofilin, psihotropni lekovi, toksične doze antikonvulziv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500040" y="7138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70c0"/>
                </a:solidFill>
                <a:latin typeface="Verdana"/>
              </a:rPr>
              <a:t>Klasifikac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Parcijalne ili žarišne kr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Generalizovane ili opšte kr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Neklasifikovane krize (neonatalne konvulzije i dr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Epilepsije vezane za uzra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70c0"/>
                </a:solidFill>
                <a:latin typeface="Verdana"/>
              </a:rPr>
              <a:t>Parcijalne ili žarišne kri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Fokalna epileps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Psihomotorna epileps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Parcijalna sa evolucijom u sekundarnu generalizovanu epilepsij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70c0"/>
                </a:solidFill>
                <a:latin typeface="Verdana"/>
              </a:rPr>
              <a:t>Generalizovane ili opšte kri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Tonično-klonična (grand ma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Absansi (petit ma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Atipični absans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Klonične kr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Atonične kr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Mioklona epileps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Infantilni spazm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70c0"/>
                </a:solidFill>
                <a:latin typeface="Verdana"/>
              </a:rPr>
              <a:t>Epilepsije vezane za uzrast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Infantilni spazm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Lennox- Gastaut s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Atipični petit m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Mioklone kr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00040" y="9997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99ffcc"/>
                </a:solidFill>
                <a:latin typeface="Verdana"/>
              </a:rPr>
              <a:t>Kliničke manifestacije neonatalnih konvulz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Diskret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Generalizovane tonič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ultifokalne klonič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Fokalne klonič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iokloničn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539640" y="980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70c0"/>
                </a:solidFill>
                <a:latin typeface="Verdana"/>
              </a:rPr>
              <a:t>Klinička sli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99ffcc"/>
                </a:solidFill>
                <a:latin typeface="Verdana"/>
              </a:rPr>
              <a:t>Tonično-klonični napad- grand ma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Može da se javi u bilo koje doba dana ili noći, najčešće pri uspavljivanju ili budjenju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Napadu može da prethodi aura (najčešće vegetativna simptomatologija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Napad počinje gubitkom svesti uz pad, potom sledi generalizovana tonična kontrakcija sa apneom i cijanozo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Ubrzo se javljaju ritmične kontrakcije trupa i ekstremiteta, koje se vremenom usporavaju i zatim naglo prestaju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Napad traje nekoliko sekundi do 30 i više minuta i završava se sno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Postiktalno moze da povraća ili da ima glavobolju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Ponekad je polusvesno a zatim konfuzno nekoliko sat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14200" y="357120"/>
            <a:ext cx="8483760" cy="6215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70c0"/>
                </a:solidFill>
                <a:latin typeface="Verdana"/>
              </a:rPr>
              <a:t>Fokalne krize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redstavljaju lokalizovane i/ili senzitivne fenomene koji se većinom generalizuju uz gubitak sve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Adverzivna kriza- skretanje pogleda ili pogleda i glave a ponekad i krivljenje tela na stranu suprotnu od strane fokusa koji je najčešće u frontalnom del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Epilepsija rolandičnih šiljaka – prepoznaje se po trzaju usana, uz nemogućnost govora ili dizartriju, sa toničniom poremećajima na jeziku i licu. Ove promene imaju u osnovi dobru prognoz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Jacksonova epilepsija- lokalizovan početak u vidu kloničnih fenomena koji se progresivno šire(npr. Od šake do ramena). Trajanje varira od 10 sec do više minu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Delimična kontinuirana epilepsija- Kojevwnikova epilepsija- lokalizovani epileptični status (zahvata lice, rame ,šaku...), koji može da traje više dana ili nedel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70c0"/>
                </a:solidFill>
                <a:latin typeface="Verdana"/>
              </a:rPr>
              <a:t>Psihomotorna kriza</a:t>
            </a:r>
            <a:r>
              <a:rPr b="0" lang="sr-Latn-CS" sz="20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- 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fokalni napadi udruženi sa lezijama temporalnog dela. Napad ima četiri del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Aura (jaka anksioznost, strepnja, strah, vidne, slušne ili mirisne halucinacij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otorni automatizmi (žvakanje, mljackanje, češanje, besciljni pokreti rukam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Kompleksne motorne radnje (kretanje po sobi, svlačenje, ponekad izgovaranje stereotipnih ili besmislenih rečenic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ostiktalna konfuzi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285840" y="530280"/>
            <a:ext cx="8400960" cy="6113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70c0"/>
                </a:solidFill>
                <a:latin typeface="Verdana"/>
              </a:rPr>
              <a:t>Epilepsije vezane za uzra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66"/>
                </a:solidFill>
                <a:latin typeface="Verdana"/>
              </a:rPr>
              <a:t>Infantilni spazmi (Sy West)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javlja se u uzrastu 3-8 meseci, skoro nikad posle prve god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Češće oboljevaju deča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Ovi napadi označavaju leziju korteksa i diencefalona, kao i degeneraciju sive i bele m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Napad se karakteriše salvama toničnih spazama u fleksiji glave, udova i trupa koji se dnevno mogu ponoviti i 100 puta- selam grče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Često je napad praćen plačom deteta i promenom boje kože (dete može da se zacrveni, pobledi ili pomodr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Spazmi mogu da prodju nezapaženo ili da se tumače kao abdominalne kolik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EEG je tipičan u 66% dece sa izraženom difuznom disritmijom, visokovoltažnim sporim talasima ili multiplim šiljak talas kompleksima- hipsritmi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28400" y="530280"/>
            <a:ext cx="8258040" cy="5756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70c0"/>
                </a:solidFill>
                <a:latin typeface="Verdana"/>
              </a:rPr>
              <a:t>Lennox-Gastaut s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očinje u uzrastu 18 meseci do 3 god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ože da se nadoveže na infantilne spazme ili da se javi kod do tada zdrave de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Napad se ispoljava naglim i prolaznim padom tonusa uz gubitak svesti i mioklonične trzaje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Karakteristični čeoni ožiljci su posledica udarca čela o sto pri naglom grčenju trupa unap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Česte su noćne tonične kriz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EEG karakteriše prisustvo bilateralnih ili sinhronih bufea sporih šiljak talas kompleksa oko 2 cikla u sekund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56760" y="-360"/>
            <a:ext cx="8412120" cy="6429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70c0"/>
                </a:solidFill>
                <a:latin typeface="Verdana"/>
              </a:rPr>
              <a:t>Petit m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Javlja se u uzrastu 5-9 godina u 64% slučaje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Smatra se da je uzrok u fokalnim kortikalnim lezijama, odakle se električna aktivnost prenosi bilateralno u široko područje kortek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Napad se karakteriše kratkotrajnim gubitkom svesti (1-10 sec) bez konvulzija, sa ukočenim i praznim pogledom i uz prekid dotadašnje aktivno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U 70% bolesnika postoje i male motorne pojave kao što su pokreti usnama i treptan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onekad usled gubitka tonusa dete ispusti predmet iz ruke, ali nikada ne pada na zemlj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Napad počinje iznenada, bez upozorenja ili aure, a može se ponoviti više puta dnev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Napad prestaje naglo, a bolesnik često nije svestan šta se deša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Karakteristični EEG nalaz se sastoji od bilateralnih i sinhronih šiljak talas kompleksa od 3 cikla u sekund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6836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70c0"/>
                </a:solidFill>
                <a:latin typeface="Verdana"/>
              </a:rPr>
              <a:t>Mioklonični petit m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Javlja se uvek posle 6 godina, najkasnije izmedju 12 i 15 god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Krize se javljaju ujutru posle budjenja i karakterišu se kontrakcijama mišića ili grupe mišića koji traju više sekund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EEG pokazuje paroksizmalne bilateralne sinhrone bufee više šiljak talas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70c0"/>
                </a:solidFill>
                <a:latin typeface="Verdana"/>
              </a:rPr>
              <a:t>Dijagnoza epilepsij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Biohemijska i bakteriološka obr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Rendgenski snimak glave (PA i profi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Verdana"/>
              </a:rPr>
              <a:t>EE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CT mozg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Lumbalna punkci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Angiografija mozg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NM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ozitronska emisiona tomografija (PE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213840" y="529920"/>
            <a:ext cx="8472600" cy="568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70c0"/>
                </a:solidFill>
                <a:latin typeface="Verdana"/>
              </a:rPr>
              <a:t>Diferencijalna dijagnoz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etabolički poremećaji (hipoglikemija, hipokalcemija, uremija, hipoksij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nfekcije( virusni i bakterijski meningitis, encefalitis, parazitoz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rogresivna moždana degenerativna obolje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ovreda gl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Febrilne konvulzi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Zacenjivan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Tiko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Sinkop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Histerični nap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6836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sr-Latn-CS" sz="3200" spc="-1" strike="noStrike">
                <a:solidFill>
                  <a:srgbClr val="0070c0"/>
                </a:solidFill>
                <a:latin typeface="Verdana"/>
              </a:rPr>
              <a:t>Lečenje epilepsij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Svaka epilepsija mora da bude lečena. Cilj je kompletna kontrola napada ili smanjenje njihove učestalosti, uz očuvanje dobrog fizičkog, psihičkog i socijalnog zdravlj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zbor antiepileptika zavisi od kliničkog i EEG nalaz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00040" y="1213920"/>
            <a:ext cx="8183520" cy="4643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99ffcc"/>
                </a:solidFill>
                <a:latin typeface="Verdana"/>
              </a:rPr>
              <a:t>Diskretne konvulzi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Teško se razlikuju od spontane aktivnosti ili reakcija koje su neepileptične prirode. Mogu se ispoljiti kao: apnea, tonična devijacija očiju, treptanje, sisanje, mljackanje, žvakanje, pokreta u vidu “plivanja”, “veslanja”, “okretanja pedala nogama”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Često se mogu previdet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odjednako se javljaju kod prematurusa i donešene novorodječad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Okularni fenomeni su najčešđi vid ispoljavanj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28760" y="1213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800" spc="-1" strike="noStrike">
                <a:solidFill>
                  <a:srgbClr val="99ffcc"/>
                </a:solidFill>
                <a:latin typeface="Verdana"/>
              </a:rPr>
              <a:t>Tonične konvulzi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- prvenstveno se javljaju kod prevremeno rodjene de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- ispoljavaju se toničnom ekstenzijom ekstremiteta, fleksijom ruku i ekstenzijom nogu, kada podseđaju na decerebracioni ili dekortikacioni položaj starije de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- ponekad su prisutni okularni znaci, apnoične krize ili klonične konvulzi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6836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99ffcc"/>
                </a:solidFill>
                <a:latin typeface="Verdana"/>
              </a:rPr>
              <a:t>Multifokalni klonični napad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spoljavaju se migrirajućim kloničnim konvulzijama, različitih delova tela, haotično čime se razlikuju od Jacksonovog nap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Karakterističan EEG nalaz je multifokalna aktivnost u vidu oštrih i sporih tala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U više od 75% slučajeva javljaju se kod donešene novorodjenčad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00040" y="107172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99ffcc"/>
                </a:solidFill>
                <a:latin typeface="Verdana"/>
              </a:rPr>
              <a:t>Fokalne klonične konvulzi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Javljaju se kao jasno ograničene i obično nisu praćene poremećajem sve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Na EEG-u se registruje fokalna aktivnost u vidu oštrih talasa, uključujući i šiljk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Ovaj tip napada se češće javlja kod donešene novorodjenčad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Često je posledica traumatske povrede (kontuzija mozga) ili cerebralne infarkci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500040" y="11426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99ffcc"/>
                </a:solidFill>
                <a:latin typeface="Verdana"/>
              </a:rPr>
              <a:t>Mioklonični napad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Javljaju se u vidu sinhronih grčeva gornjih i donjih ekstremite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odjednako često se javljaju kod prematurusa i donešene novorodjenčad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Kod ove dece se kasnije često javljaju infantilni spazm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2T09:36:42Z</dcterms:created>
  <dc:creator>ivo</dc:creator>
  <dc:description/>
  <dc:language>en-US</dc:language>
  <cp:lastModifiedBy>Dr HOME</cp:lastModifiedBy>
  <dcterms:modified xsi:type="dcterms:W3CDTF">2015-12-10T16:34:32Z</dcterms:modified>
  <cp:revision>18</cp:revision>
  <dc:subject/>
  <dc:title>Slide 1</dc:title>
</cp:coreProperties>
</file>