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42.png" ContentType="image/png"/>
  <Override PartName="/ppt/media/image26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5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9CD-C3EB-4DB5-8F11-B434C697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C73-506A-4092-A787-ABD3F5D5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28B-5B37-4789-BB0E-D5DD8F12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FF5-A8E0-43B0-9AD9-5E73BB9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0AC-1746-49F1-BB8B-2DA1D4F8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ECA-0D1F-4FDD-83DB-98CEFC02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BF2E-D4BC-40CA-AEBF-C04F9F6C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BB02-E3C3-452F-83DA-FFE6021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A309-107B-43BC-A546-AACFFFD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E9A0-2E60-40D2-BEF3-5EC91AC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AFEA-6EED-46C5-BCDC-3C4A68F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CDB-B145-4463-8379-68A41AC6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DA8-27A4-4FE6-B93F-23E7868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4E7-740B-4993-8A89-5B3DFA20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3083-D88C-4ED9-9F3E-5BD45678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FBAD-16B2-49BF-8C52-BB3C5BE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BACD-A99E-4413-8002-83DFD33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F183-D889-4F8C-B269-3C3A3A83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1F3-1C78-4191-8FEF-21B03A14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F277-3713-41F7-A00F-4F71FD07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8960-6BB5-44D7-8CD5-D7999B8D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8B00-EBD9-4FCE-9EFD-6EAF1A6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EB2E-F3C0-43ED-9425-F215B98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5CC0-7119-4F8D-AB53-617C3A36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837-4E98-4CB0-BBA2-AD7F957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0CC6-41C7-4D17-9CA6-3C46C9DC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EFE1-01A5-476C-8015-75D2E54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A083-99F9-4004-87E8-5041CD8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08B3-524F-4C04-B7AE-FAEC3CE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D433-CBDE-439E-958A-93DE925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4F23-410A-4DD1-B9BC-100B2B87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B6AC-B65E-4BB1-AF81-FD08ED9C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028F-FAFC-44C9-9759-F1E9AAC2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2EBA-FA02-4463-B799-DF80C5A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100C-327F-4E72-9C0F-A2070011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3AB-385F-4834-AE51-A423C51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0EC7-67C0-4744-98A6-691977D2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7338-17D6-429D-A2BD-90A07E3C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23E9-7AD0-42A3-8589-AFE40D9F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518CA-B8E3-47B4-802F-4CAA189B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834D-D1B3-4E50-B4BF-23C9D5B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5E41-3D90-46F4-B2CB-633E9669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3208-9D5E-4BD2-93F8-1DD86A6D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1EC2-DC6C-4F97-B025-160CC0EF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64BD-20EB-4DE2-9D44-A805FEA8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9357-03D5-402C-805F-5C25D887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FBF-B48F-439B-9BD6-2A75499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C014-16CB-42E1-AB7D-D4B5CD1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C268-2FCE-4AD6-B3E1-68BF12D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8867-7B13-4EA4-B2A0-2B8C705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7FD24-FB7B-4E47-AF7F-56083547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38F78-0630-4050-8F5C-658E5F7A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8C88-8DF4-44AE-81F5-D8A276F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8F18-24C6-4781-9F00-76A0516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150B2-4004-4FA7-9198-67537AC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200A-346F-412E-8C54-92F1CC75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DA3B-3EC0-4127-BF3A-F086822C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65E-1DF8-464C-BEF5-D19008A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A2A5-89CD-40C7-B993-42A96B67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68D2-97EF-4B86-BFD7-ACFD6751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8F2A-7BD3-4B7C-872B-9CEAD63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F3BB5-8C8D-4A8D-A040-4039132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CC27-37D0-44F5-8B7D-A4F9B1D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E6E0-11EE-4DD5-99B8-8D93322B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6096A-1FA2-439B-B941-89C21C63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FCD3-ECDE-47E4-909B-33CE1CD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3645-38FD-4E5A-9B06-51B91BB8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7132-6445-42B2-8566-C9091DB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0E2-A16B-4331-85B3-96BE39B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CD3D0-2EDC-4C46-BEA0-EA737071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47AEE-7420-4194-9C48-D75E39DD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444D-0FD3-40E4-96F4-E225177F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581D-6333-44E6-996F-ABF6A678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9E4CC-3F16-42F0-90CD-5B7534BE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D1E7-DF47-4B24-99BF-7D73D172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C9F0-1AF0-42FF-B53C-5C44573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DA08-CBE5-4BE0-A526-E8FEEA3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2B83-1930-4E37-80DB-92EBA4FB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30CE-F537-435E-8585-8866A06A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EB6-C72B-4595-90EA-60EFCDD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E47B7-D4C5-4450-8CD7-A4B8778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E8E37-CDAF-4761-86F8-0EE78C6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1CA0-CD87-4BA4-B687-75E4509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3B833-59EC-46E9-B931-B8537772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BD883-D4A7-44B2-80DB-69D09E76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BD0A8-A757-4D2C-BDAE-94E3DB76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B88E-3553-43EF-BD65-F2B78AC7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74C1-CE97-4D04-8CBE-C583FD4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42B4-7729-4F65-8EFA-F8789256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907F-50DD-4D56-9B2B-16848A73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75D-E15F-43A0-8919-F76E7B96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F0CF5-BB4B-453A-A00A-B1A14DA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8608-68B3-4B2F-896B-9EC752A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D1546-A3EB-4108-B60A-FF0306C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6AF0-81C2-41F2-8751-0C1515B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775D-D03A-4FDA-BC30-7C980894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CA108-5232-4C04-A31B-5FA007B7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49EF-9833-4D60-A9A4-802A97F4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822-ED57-40C4-9B90-B91EB4F1F3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7D9-3FB2-4A78-A841-CE1A8F4B1E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7B5-889A-484A-AF0D-AB336EA7E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A35-9EFC-46FB-9BF7-4158D7E0AD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5011-5D90-43E6-8A2A-FAE5F2F1DE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96EA-A742-4535-9433-8D03ADDC0A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86B-841E-4629-AD66-2FF6206965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05E1-E0A2-4CE1-B855-02364092E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31960"/>
            <a:ext cx="8120160" cy="1859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Zoran Igrutinovi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Medicinski fakulte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Klinika za pedijatrij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врат је укочен а фонтанела напе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(због едема може настати транстенторијал.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хернијација</a:t>
            </a: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)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брза и адекватна антибиотска и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супортивна терапија су често неефикасне</a:t>
            </a:r>
            <a:r>
              <a:rPr b="0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Мање од 1% деце са бактеријским менинг. нема класичне симптоме, већ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ејасну фебрилност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оремећај понашања и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етехијално крвављење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Петехије се најчешће јављају код менингококне сепсе, али се јављају и код инфекције пнеумококом и код вирусних инфекциј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1960" y="0"/>
            <a:ext cx="8401320" cy="1427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septicaemia baby with purple toes 1"/>
          <p:cNvPicPr/>
          <p:nvPr/>
        </p:nvPicPr>
        <p:blipFill>
          <a:blip r:embed="rId2"/>
          <a:stretch/>
        </p:blipFill>
        <p:spPr>
          <a:xfrm>
            <a:off x="6691320" y="2209680"/>
            <a:ext cx="2452680" cy="2086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Значајни параметри који указују на БМ су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тешко опште стање детета (знаци шок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врискав, слаб пла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бледо-сива боја коже, дехидрациј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код фулминантног менингитиса број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леукоцита је нормалан или снижен, шт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указује и на вирус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 u="sng">
                <a:solidFill>
                  <a:srgbClr val="cc0000"/>
                </a:solidFill>
                <a:uFillTx/>
                <a:latin typeface="Lucida Sans Unicode"/>
              </a:rPr>
              <a:t>тешко стање детета је кључна разлика ове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Lucida Sans Unicode"/>
              </a:rPr>
              <a:t> </a:t>
            </a:r>
            <a:r>
              <a:rPr b="1" lang="sr-CS" sz="2800" spc="-1" strike="noStrike" u="sng">
                <a:solidFill>
                  <a:srgbClr val="cc0000"/>
                </a:solidFill>
                <a:uFillTx/>
                <a:latin typeface="Lucida Sans Unicode"/>
              </a:rPr>
              <a:t>две боле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почетак болест је обично неспецифича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симптоми инфекције горњих респираторних путева,  уз губитак апетита, муку и повраћање</a:t>
            </a:r>
            <a:r>
              <a:rPr b="0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присуство екстра-менингеалне инфек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(фарингитис, отитис) често зава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када деца примају орално антибиотик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(декапитирани менингитис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Болест клинички пролази кроз три стадијума којима претходи продромални стадијум различите дужине, најчешће 2-3 недеље, а испољава се знацима опште инфекције и променом расположења било у смислу апатије или раздражљивост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Дијагноза се п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оставља на основу анамнестичких података о прележаној или активној туберкулози на неком органу, клиничке слике и </a:t>
            </a:r>
            <a:r>
              <a:rPr b="1" lang="en-US" sz="2800" spc="-1" strike="noStrike">
                <a:solidFill>
                  <a:srgbClr val="cc0000"/>
                </a:solidFill>
                <a:latin typeface="Lucida Sans Unicode"/>
              </a:rPr>
              <a:t>прегледа ликвора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К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линички стадијум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и ТБЦ менингитиса трају по 7 дан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i="1" lang="en-US" sz="2800" spc="-1" strike="noStrike">
                <a:solidFill>
                  <a:srgbClr val="0070c0"/>
                </a:solidFill>
                <a:latin typeface="Lucida Sans Unicode"/>
              </a:rPr>
              <a:t>СТАДИЈУМ I (</a:t>
            </a:r>
            <a:r>
              <a:rPr b="1" i="1" lang="sr-CS" sz="2800" spc="-1" strike="noStrike">
                <a:solidFill>
                  <a:srgbClr val="0070c0"/>
                </a:solidFill>
                <a:latin typeface="Lucida Sans Unicode"/>
              </a:rPr>
              <a:t>ОПШТИХ ТЕГОБ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лако повишена температу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главобољ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повраћањ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опстипациј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брадикард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бледил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врат је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ограничено покрета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СТАДИЈУМ II </a:t>
            </a:r>
            <a:r>
              <a:rPr b="1" i="1" lang="sr-CS" sz="2700" spc="-1" strike="noStrike">
                <a:solidFill>
                  <a:srgbClr val="000000"/>
                </a:solidFill>
                <a:latin typeface="Lucida Sans Unicode"/>
              </a:rPr>
              <a:t>(МЕНИНГЕАЛН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повишена температура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главобољ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повраћањ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позитивни менингеални знац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базиларни знаци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крајем овог стадијума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анизокорија (неједнаке зенице)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трабизам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птоза очних капак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диплопија (дупле слике)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ојава безвољног уринирањ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СТАДИЈУМ III </a:t>
            </a:r>
            <a:r>
              <a:rPr b="1" i="1" lang="sr-CS" sz="2700" spc="-1" strike="noStrike">
                <a:solidFill>
                  <a:srgbClr val="000000"/>
                </a:solidFill>
                <a:latin typeface="Lucida Sans Unicode"/>
              </a:rPr>
              <a:t>(паралитичко - енцефалитичн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базиларни знаци</a:t>
            </a: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још израженији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поремећаји свести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раздражљивост</a:t>
            </a: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или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немир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летаргиј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апатиј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омноленциј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опор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ком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31840" y="-1094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1893960" y="5486400"/>
            <a:ext cx="57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 u="sng">
                <a:solidFill>
                  <a:srgbClr val="cc0000"/>
                </a:solidFill>
                <a:uFillTx/>
                <a:latin typeface="Arial"/>
              </a:rPr>
              <a:t>НЕПРЕПОЗНАТ И НЕЛЕЧЕН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r>
              <a:rPr b="1" i="1" lang="sr-CS" sz="1800" spc="-1" strike="noStrike" u="sng">
                <a:solidFill>
                  <a:srgbClr val="cc0000"/>
                </a:solidFill>
                <a:uFillTx/>
                <a:latin typeface="Arial"/>
              </a:rPr>
              <a:t>СМРТ ЗА 3 НЕДЕ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уколико је дете млађе симптоми с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неспецифичнији (температура, повраћање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код одојчади је менингеални синдр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често је одсутан, а код 50% је фонтане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напет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менингитис се увек разматра када с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прегледом не може објаснити тешко стањ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детета или када мајка каже да дете н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добро (апатично, плачљиво, без апетита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91960" y="-122400"/>
            <a:ext cx="84013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Анамнез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Неуропедијатријски прегл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абораторијске анализ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УМБАЛНА ПУНК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Неурорадиолошко испитив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Неурофизиолошко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испитив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68200" y="249120"/>
            <a:ext cx="8425080" cy="750960"/>
          </a:xfrm>
          <a:prstGeom prst="rect">
            <a:avLst/>
          </a:prstGeom>
          <a:ln w="0">
            <a:noFill/>
          </a:ln>
        </p:spPr>
      </p:pic>
      <p:sp>
        <p:nvSpPr>
          <p:cNvPr id="425" name="Oval 4"/>
          <p:cNvSpPr/>
          <p:nvPr/>
        </p:nvSpPr>
        <p:spPr>
          <a:xfrm>
            <a:off x="228600" y="2438280"/>
            <a:ext cx="655308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Lucida Sans Unicode"/>
              </a:rPr>
              <a:t>Менингитисни синдром</a:t>
            </a:r>
            <a:r>
              <a:rPr b="1" lang="sr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у деце је скуп клиничких знакова и симптома, које сваки педијатар треба добро да познаје, како би одмах хоспитализовао болесно дете и правовремено одрадио дијагностику (лумбалну пункцију) и применио адекватну терапиј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ff00"/>
                </a:solidFill>
                <a:latin typeface="Lucida Sans Unicode"/>
              </a:rPr>
              <a:t>Општи педијатријски преглед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стање свести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фебрилност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промене по кож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положај при преглед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напетост фонтанел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98440" y="176040"/>
            <a:ext cx="8394840" cy="622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napeta fontanela"/>
          <p:cNvPicPr/>
          <p:nvPr/>
        </p:nvPicPr>
        <p:blipFill>
          <a:blip r:embed="rId2"/>
          <a:stretch/>
        </p:blipFill>
        <p:spPr>
          <a:xfrm>
            <a:off x="5105520" y="4495680"/>
            <a:ext cx="3149640" cy="157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9" name="Picture 5" descr="0"/>
          <p:cNvPicPr/>
          <p:nvPr/>
        </p:nvPicPr>
        <p:blipFill>
          <a:blip r:embed="rId3"/>
          <a:stretch/>
        </p:blipFill>
        <p:spPr>
          <a:xfrm>
            <a:off x="1447920" y="4419720"/>
            <a:ext cx="213336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ff00"/>
                </a:solidFill>
                <a:latin typeface="Lucida Sans Unicode"/>
              </a:rPr>
              <a:t>Неуролошки прегл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менингеални знаци: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укочен вра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Кернигов знак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знак Бружинског</a:t>
            </a:r>
            <a:r>
              <a:rPr b="0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горњи и доњ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Вујићев зна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Амосов зна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708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Brudzinski"/>
          <p:cNvPicPr/>
          <p:nvPr/>
        </p:nvPicPr>
        <p:blipFill>
          <a:blip r:embed="rId2"/>
          <a:stretch/>
        </p:blipFill>
        <p:spPr>
          <a:xfrm>
            <a:off x="4038480" y="4419720"/>
            <a:ext cx="4089600" cy="2057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Колизија анамнезе и прегледа 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ретпостављеном дијагноз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Фебрилно дете има необјашњи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оремећај понашања и све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Фебрилне конвулзије код одојчета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854100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304920" y="5715000"/>
            <a:ext cx="8686800" cy="825480"/>
          </a:xfrm>
          <a:prstGeom prst="rect">
            <a:avLst/>
          </a:prstGeom>
          <a:solidFill>
            <a:srgbClr val="0033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oper Bold YU"/>
              </a:rPr>
              <a:t>КОД СВАКЕ СУМЊЕ НА ПУРУЛЕНТНИ МЕНИНГИТИС УРАДИТИ ЛУМБАЛНУ ПУНК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Контраиндикације за лумб. пункцију су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повишен интракр. притисак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(реална опасност хернијације је 4,3-6%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брзи развој коме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фокални неуролошки знаци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застојна папи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Lucida Sans Unicode"/>
              </a:rPr>
              <a:t>после конвулзија ЛП се одлаже 30 мин</a:t>
            </a:r>
            <a:r>
              <a:rPr b="1" lang="sr-CS" sz="2300" spc="-1" strike="noStrike">
                <a:solidFill>
                  <a:srgbClr val="ffff00"/>
                </a:solidFill>
                <a:latin typeface="Lucida Sans Unicode"/>
              </a:rPr>
              <a:t>.</a:t>
            </a:r>
            <a:r>
              <a:rPr b="1" lang="en-US" sz="23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369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ff00"/>
                </a:solidFill>
                <a:latin typeface="Lucida Sans Unicode"/>
              </a:rPr>
              <a:t>Ликвор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се преглед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директним препаратом (микроскоп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биохемијс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микробиолош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sr-CS" sz="2700" spc="-1" strike="noStrike">
                <a:solidFill>
                  <a:srgbClr val="002060"/>
                </a:solidFill>
                <a:latin typeface="Lucida Sans Unicode"/>
              </a:rPr>
              <a:t>серолош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Од великог је значаја су 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хемокулту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едиментација еритро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леукоцитоз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вредности ЦРП-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Неурорадиолошка испитивања су од малог значаја у дијагнози менингитиса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ЦТ, МР или УЗ  главе индиковани су код: погоршања интракранијалне хипертензије или фокалних дефицита (компликације)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ептикем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Фебрилне конвулз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ероз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ТБЦ / гљивич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Мождани апсцес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Траума глав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убдурални хемат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Метаболички поремећај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Интоксикац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СА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Неопластични менинг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91960" y="-60480"/>
            <a:ext cx="8401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291960" y="-66600"/>
            <a:ext cx="8401320" cy="63324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4"/>
          <p:cNvGrpSpPr/>
          <p:nvPr/>
        </p:nvGrpSpPr>
        <p:grpSpPr>
          <a:xfrm>
            <a:off x="304920" y="838080"/>
            <a:ext cx="2819160" cy="5761080"/>
            <a:chOff x="304920" y="838080"/>
            <a:chExt cx="2819160" cy="5761080"/>
          </a:xfrm>
        </p:grpSpPr>
        <p:sp>
          <p:nvSpPr>
            <p:cNvPr id="445" name="Rectangle 5"/>
            <p:cNvSpPr/>
            <p:nvPr/>
          </p:nvSpPr>
          <p:spPr>
            <a:xfrm>
              <a:off x="304920" y="884160"/>
              <a:ext cx="2819160" cy="57150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6" descr="40 GN spoljna strana mozga"/>
            <p:cNvPicPr/>
            <p:nvPr/>
          </p:nvPicPr>
          <p:blipFill>
            <a:blip r:embed="rId2"/>
            <a:stretch/>
          </p:blipFill>
          <p:spPr>
            <a:xfrm>
              <a:off x="380880" y="1493640"/>
              <a:ext cx="2667240" cy="17496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447" name="Text Box 7"/>
            <p:cNvSpPr/>
            <p:nvPr/>
          </p:nvSpPr>
          <p:spPr>
            <a:xfrm>
              <a:off x="1040760" y="838080"/>
              <a:ext cx="15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CS" sz="2400" spc="-1" strike="noStrike">
                  <a:solidFill>
                    <a:srgbClr val="000000"/>
                  </a:solidFill>
                  <a:latin typeface="Cooper Bold YU"/>
                  <a:ea typeface="Times New Roman"/>
                </a:rPr>
                <a:t>ВИРУС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380160" y="3552840"/>
              <a:ext cx="2611440" cy="28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вор бистар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еинорах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.5 do 1.0g/l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икорах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50-66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ћелиј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мфоци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1000 u mm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832680" y="324792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ЕРОЗ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0"/>
          <p:cNvGrpSpPr/>
          <p:nvPr/>
        </p:nvGrpSpPr>
        <p:grpSpPr>
          <a:xfrm>
            <a:off x="3200400" y="838080"/>
            <a:ext cx="2819520" cy="5761080"/>
            <a:chOff x="3200400" y="838080"/>
            <a:chExt cx="2819520" cy="5761080"/>
          </a:xfrm>
        </p:grpSpPr>
        <p:sp>
          <p:nvSpPr>
            <p:cNvPr id="451" name="Rectangle 11"/>
            <p:cNvSpPr/>
            <p:nvPr/>
          </p:nvSpPr>
          <p:spPr>
            <a:xfrm>
              <a:off x="3200400" y="884160"/>
              <a:ext cx="2819520" cy="57150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12"/>
            <p:cNvGrpSpPr/>
            <p:nvPr/>
          </p:nvGrpSpPr>
          <p:grpSpPr>
            <a:xfrm>
              <a:off x="3350160" y="838080"/>
              <a:ext cx="2593440" cy="5515200"/>
              <a:chOff x="3350160" y="838080"/>
              <a:chExt cx="2593440" cy="5515200"/>
            </a:xfrm>
          </p:grpSpPr>
          <p:pic>
            <p:nvPicPr>
              <p:cNvPr id="453" name="Picture 13" descr="Purulentni mening"/>
              <p:cNvPicPr/>
              <p:nvPr/>
            </p:nvPicPr>
            <p:blipFill>
              <a:blip r:embed="rId3"/>
              <a:stretch/>
            </p:blipFill>
            <p:spPr>
              <a:xfrm>
                <a:off x="3353040" y="1493640"/>
                <a:ext cx="2590560" cy="178776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454" name="Text Box 14"/>
              <p:cNvSpPr/>
              <p:nvPr/>
            </p:nvSpPr>
            <p:spPr>
              <a:xfrm>
                <a:off x="3498840" y="838080"/>
                <a:ext cx="24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АКТЕРИЈСК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5"/>
              <p:cNvSpPr/>
              <p:nvPr/>
            </p:nvSpPr>
            <p:spPr>
              <a:xfrm>
                <a:off x="3350160" y="3576600"/>
                <a:ext cx="2549160" cy="27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иквор мутан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протеинорах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 - 5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/l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гликорахија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нижен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40%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ћелиј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&g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мор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do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0 u mm</a:t>
                </a:r>
                <a:r>
                  <a:rPr b="0" lang="sr-Latn-C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3719160" y="3247920"/>
                <a:ext cx="190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УРУЛЕНТН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7"/>
          <p:cNvGrpSpPr/>
          <p:nvPr/>
        </p:nvGrpSpPr>
        <p:grpSpPr>
          <a:xfrm>
            <a:off x="6195960" y="838080"/>
            <a:ext cx="2961360" cy="5761080"/>
            <a:chOff x="6195960" y="838080"/>
            <a:chExt cx="2961360" cy="5761080"/>
          </a:xfrm>
        </p:grpSpPr>
        <p:sp>
          <p:nvSpPr>
            <p:cNvPr id="458" name="Rectangle 18"/>
            <p:cNvSpPr/>
            <p:nvPr/>
          </p:nvSpPr>
          <p:spPr>
            <a:xfrm>
              <a:off x="6195960" y="884160"/>
              <a:ext cx="2819520" cy="57150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19"/>
            <p:cNvGrpSpPr/>
            <p:nvPr/>
          </p:nvGrpSpPr>
          <p:grpSpPr>
            <a:xfrm>
              <a:off x="6347520" y="838080"/>
              <a:ext cx="2809800" cy="5607000"/>
              <a:chOff x="6347520" y="838080"/>
              <a:chExt cx="2809800" cy="5607000"/>
            </a:xfrm>
          </p:grpSpPr>
          <p:pic>
            <p:nvPicPr>
              <p:cNvPr id="460" name="Picture 20" descr="TBC menin bazil"/>
              <p:cNvPicPr/>
              <p:nvPr/>
            </p:nvPicPr>
            <p:blipFill>
              <a:blip r:embed="rId4"/>
              <a:stretch/>
            </p:blipFill>
            <p:spPr>
              <a:xfrm>
                <a:off x="6348240" y="1493640"/>
                <a:ext cx="2590920" cy="17924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461" name="Text Box 21"/>
              <p:cNvSpPr/>
              <p:nvPr/>
            </p:nvSpPr>
            <p:spPr>
              <a:xfrm>
                <a:off x="6487920" y="838080"/>
                <a:ext cx="266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УБЕРКУЛОЗ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22"/>
              <p:cNvSpPr/>
              <p:nvPr/>
            </p:nvSpPr>
            <p:spPr>
              <a:xfrm>
                <a:off x="6347520" y="3576600"/>
                <a:ext cx="2611440" cy="28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ликвор биста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протеинорах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0.5 do 1.0g/l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ликорахија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нижен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40%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ћелиј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имфоци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o 1000 u mm</a:t>
                </a:r>
                <a:r>
                  <a:rPr b="0" lang="sr-Latn-C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23"/>
              <p:cNvSpPr/>
              <p:nvPr/>
            </p:nvSpPr>
            <p:spPr>
              <a:xfrm>
                <a:off x="6805080" y="3247920"/>
                <a:ext cx="178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АЗИЛАРН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ИКВОР ЈЕ ЗАМУЋЕ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ротеинорахиј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0.5g/l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(до 5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g/l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гликорахиј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lt; 2.4mmola/l (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иквор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: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серум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&lt; 0.31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еукоцити (полиморфонук.)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1000  &lt; 10000/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бојење по Граму позитивно 70 – 90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ЦРП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100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µ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g/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атекс аглутина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268200" y="-66600"/>
            <a:ext cx="84250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"/>
          <p:cNvSpPr/>
          <p:nvPr/>
        </p:nvSpPr>
        <p:spPr>
          <a:xfrm>
            <a:off x="685800" y="16765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УЧЕСТАЛОСТ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 :  0,1-10 / 1.000 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ЉУДИ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70% 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СУ ДЕЦА ДО 5. ГОДИНЕ</a:t>
            </a:r>
            <a:r>
              <a:rPr b="0" lang="sr-Latn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762120" y="303840"/>
            <a:ext cx="77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ПУРУЛЕНТНИ МЕНИНГ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ЛИКВОР ЈЕ БИСТ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ротеинорахиј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o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д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0.5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до 1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g/l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гликорахија је нормал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-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1000 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ћелија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/ml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(предом. лимфоцит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70c0"/>
                </a:solidFill>
                <a:latin typeface="Lucida Sans Unicode"/>
              </a:rPr>
              <a:t>у почетку болести у ¼ се могу наћи и полиморфонуклеари (око 10%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   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контролна пункција за 24-48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h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покаже увек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91960" y="85680"/>
            <a:ext cx="840132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ЛИКВОР ЈЕ БИСТ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протеинорахија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o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д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0.5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до 1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g/l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гликорахија је снижен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(мање од 40% гликемије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-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1000 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ћелиј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/ml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(предом. лимфоцити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бојење препарата по Цил-Нилзен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засејавање на подлогу (Левенштајн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ЕЛИ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291960" y="171360"/>
            <a:ext cx="84013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088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Антибиотици</a:t>
            </a:r>
            <a:r>
              <a:rPr b="1" lang="sr-Latn-CS" sz="24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Cooper Bold YU"/>
              </a:rPr>
              <a:t>– </a:t>
            </a:r>
            <a:r>
              <a:rPr b="1" lang="sr-CS" sz="2000" spc="-1" strike="noStrike">
                <a:solidFill>
                  <a:srgbClr val="ff0000"/>
                </a:solidFill>
                <a:latin typeface="Cooper Bold YU"/>
              </a:rPr>
              <a:t>брзо и у адекватној доз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Заштита можданог метаболиз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Контрола интракран. притиска</a:t>
            </a:r>
            <a:br>
              <a:rPr sz="2400"/>
            </a:br>
            <a:r>
              <a:rPr b="1" lang="sr-Latn-CS" sz="2400" spc="-1" strike="noStrike">
                <a:solidFill>
                  <a:srgbClr val="00ff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Контрола конвулз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Одржавање хомеостазе</a:t>
            </a:r>
            <a:r>
              <a:rPr b="1" lang="sr-Latn-CS" sz="2800" spc="-1" strike="noStrike">
                <a:solidFill>
                  <a:srgbClr val="00ff00"/>
                </a:solidFill>
                <a:latin typeface="Cooper Bold YU"/>
              </a:rPr>
              <a:t> / </a:t>
            </a: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нормоволемије</a:t>
            </a:r>
            <a:r>
              <a:rPr b="1" lang="sr-Latn-CS" sz="2400" spc="-1" strike="noStrike">
                <a:solidFill>
                  <a:srgbClr val="ffff00"/>
                </a:solidFill>
                <a:latin typeface="Cooper Bold YU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oper Bold YU"/>
              </a:rPr>
              <a:t>    </a:t>
            </a:r>
            <a:r>
              <a:rPr b="1" lang="sr-CS" sz="2000" spc="-1" strike="noStrike">
                <a:solidFill>
                  <a:srgbClr val="ff0000"/>
                </a:solidFill>
                <a:latin typeface="Cooper Bold YU"/>
              </a:rPr>
              <a:t>(хиперволемија</a:t>
            </a:r>
            <a:r>
              <a:rPr b="1" lang="sr-Latn-CS" sz="2000" spc="-1" strike="noStrike">
                <a:solidFill>
                  <a:srgbClr val="ff0000"/>
                </a:solidFill>
                <a:latin typeface="Cooper Bold YU"/>
              </a:rPr>
              <a:t> – SIADH</a:t>
            </a:r>
            <a:r>
              <a:rPr b="1" lang="sr-CS" sz="2000" spc="-1" strike="noStrike">
                <a:solidFill>
                  <a:srgbClr val="ff0000"/>
                </a:solidFill>
                <a:latin typeface="Cooper Bold YU"/>
              </a:rPr>
              <a:t>  - хиповолемија - дехидрациј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Контрола хиперпирекс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91960" y="-60480"/>
            <a:ext cx="8401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"/>
          <p:cNvGraphicFramePr/>
          <p:nvPr/>
        </p:nvGraphicFramePr>
        <p:xfrm>
          <a:off x="457200" y="1600200"/>
          <a:ext cx="8458200" cy="4427640"/>
        </p:xfrm>
        <a:graphic>
          <a:graphicData uri="http://schemas.openxmlformats.org/drawingml/2006/table">
            <a:tbl>
              <a:tblPr/>
              <a:tblGrid>
                <a:gridCol w="2762280"/>
                <a:gridCol w="2803320"/>
                <a:gridCol w="289260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 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У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ЛЕК ИЗБО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АЛТЕРНАТИ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ff00"/>
                          </a:solidFill>
                          <a:latin typeface="Cooper Bold YU"/>
                        </a:rPr>
                        <a:t>Одојчад и деца до 4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Vankom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Rifamp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168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ff00"/>
                          </a:solidFill>
                          <a:latin typeface="Cooper Bold YU"/>
                        </a:rPr>
                        <a:t>Деца 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ff00"/>
                          </a:solidFill>
                          <a:latin typeface="Cooper Bold YU"/>
                        </a:rPr>
                        <a:t>5 – 15 год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Vankom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Ampicill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70c0"/>
                          </a:solidFill>
                          <a:latin typeface="Cooper Bold YU"/>
                        </a:rPr>
                        <a:t>Chloramfenik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d3ee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045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H. influenze                     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7-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10  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S. pneumoniae               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-14  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N. meningitidis                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-7    </a:t>
            </a:r>
            <a:r>
              <a:rPr b="1" lang="sr-CS" sz="2700" spc="-1" strike="noStrike">
                <a:solidFill>
                  <a:srgbClr val="ff0000"/>
                </a:solidFill>
                <a:latin typeface="Lucida Sans Unicode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5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дана од нормализације температур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5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дана од</a:t>
            </a:r>
            <a:r>
              <a:rPr b="0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стерилизације ликвора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–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контролна Л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324000" y="255600"/>
            <a:ext cx="83692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Object 4"/>
          <p:cNvGraphicFramePr/>
          <p:nvPr/>
        </p:nvGraphicFramePr>
        <p:xfrm>
          <a:off x="1752480" y="1828800"/>
          <a:ext cx="548640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5486400" cy="3927600"/>
                  </a:xfrm>
                  <a:prstGeom prst="rect">
                    <a:avLst/>
                  </a:prstGeom>
                  <a:ln cap="sq"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8" name="Rectangle 2" descr=""/>
          <p:cNvPicPr/>
          <p:nvPr/>
        </p:nvPicPr>
        <p:blipFill>
          <a:blip r:embed="rId3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6"/>
          <p:cNvSpPr/>
          <p:nvPr/>
        </p:nvSpPr>
        <p:spPr>
          <a:xfrm>
            <a:off x="3354480" y="2590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iseria m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5717160" y="25909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353040" y="3429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emophilus i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5793480" y="3581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3200760" y="44197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pt. pneu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556488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Неуролошке секвеле се дуготрајно прате и могу се ублажити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рехабилитациј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психолошком подршком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помагањем родитељи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291960" y="360360"/>
            <a:ext cx="8401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052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E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Н Ц Е Ф А Л И Т И С  У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Ц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је запаљење можданог паренхим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које најчешће изазивају вирус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које се клинички манифестуј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наглим почетк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рогресивним ток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честим комликација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високим леталитет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каснијим секвела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Примарни</a:t>
            </a: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енцефалитиси настају директном инвазијом можданог паренхима од стране инфективног аген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ff00"/>
                </a:solidFill>
                <a:latin typeface="Lucida Sans Unicode"/>
              </a:rPr>
              <a:t>С</a:t>
            </a: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екундарни</a:t>
            </a: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настају ширењем патолошког процеса узрокованог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: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инфекцијом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пара-постинфективн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м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едикам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ент.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или токсинима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&gt;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токсични енцеф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2824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Упала може да захвати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ретежно белу масу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леуко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али мозак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ромб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 је најчешће дифузна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ан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Lucida Sans Unicode"/>
              </a:rPr>
              <a:t>Поред можданог ткива често су за</a:t>
            </a: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хваћене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мождан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опне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енинго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ити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кичмена мождина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енингоенце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ломyелитис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трансверзални мијелитис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нцефаломиелорадикулонеуритис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98440" y="219240"/>
            <a:ext cx="83948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Hemophilus influenz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Neisseria meningitidis         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80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c33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Streptoco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c</a:t>
            </a:r>
            <a:r>
              <a:rPr b="0" lang="sr-Latn-CS" sz="3600" spc="-1" strike="noStrike">
                <a:solidFill>
                  <a:srgbClr val="0070c0"/>
                </a:solidFill>
                <a:latin typeface="Lucida Sans Unicode"/>
              </a:rPr>
              <a:t>cus pneumonia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6400800" y="1676520"/>
            <a:ext cx="609480" cy="3124080"/>
          </a:xfrm>
          <a:custGeom>
            <a:avLst/>
            <a:gdLst>
              <a:gd name="textAreaLeft" fmla="*/ 0 w 609480"/>
              <a:gd name="textAreaRight" fmla="*/ 219960 w 6094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304920" y="1219320"/>
          <a:ext cx="8229600" cy="5546520"/>
        </p:xfrm>
        <a:graphic>
          <a:graphicData uri="http://schemas.openxmlformats.org/drawingml/2006/table">
            <a:tbl>
              <a:tblPr/>
              <a:tblGrid>
                <a:gridCol w="3714480"/>
                <a:gridCol w="4515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ВИРУС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ентеровир., АРБО, ХСВ, инфлуен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Times New Roman"/>
                        </a:rPr>
                        <a:t>неонатални период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МВ, ХСВ тип 2, рубелла, ЕЦХ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ПАРАИНФЕКТИВН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ПОСТИНФЕКТИВ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рбилле, варицелла, рубел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5-20 дана од појаве осп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мпликација вакцина про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беснила, вариоле, морб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СУБАКУТНИ И ХРОНИЧ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(СПОРИ ВИРУСН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СП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морбилле, рубелла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ројц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фелд-Јакобова бол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приони)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oper Bold YU"/>
                          <a:ea typeface="Times New Roman"/>
                        </a:rPr>
                        <a:t>ЕНЦЕФАЛОПАТИЈ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е</a:t>
                      </a: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ј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в синд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арицелле или грипа (+салицилати 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*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рогресивна мултифокалн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еукоенцефалопатиј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(папова вир)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У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ногим областима АРБО вируси изазивају сезонске епидемије енцефалити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Вектори су комарци или крпе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источни и западни ко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ск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јапански Б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руск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сре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оевропски енцефалити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западног Нил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лето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епидемије ентеровирусних енцеф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(Коксаки А, тип 7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зиму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епидемије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нфлуенца енцеф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291960" y="-12600"/>
            <a:ext cx="84013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У новорођенчади се због гениталног херпеса мајке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(ХСВ 2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јав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а инфекција 1 на 2-5000 порођај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која се у 30% манифестује као неонатал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менингоенцефалитис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ХСВ може доспети до ЦНС-а на три начина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путем хематогене дисеминациј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путем олфактивних влакан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ретроградним шире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ем из ганглио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према мозг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91960" y="60480"/>
            <a:ext cx="84013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КЛИНИЧКА СЛИ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НАЛАЗ У ЛИКВОР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ЕЕ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ЦТ, МР, П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ИЗОЛАЦИЈА ВИРУ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БИОПСИЈА МОЗГ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614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228600" y="9144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неонатуса херпесни менингоенцеф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се јав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као део дисеминоване инфекције крајем I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неде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, или као изоловани енцефалитис обично у II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ли III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неде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Lucida Sans Unicode"/>
              </a:rPr>
              <a:t>Кожне промене</a:t>
            </a:r>
            <a:r>
              <a:rPr b="1" lang="sr-Latn-C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Lucida Sans Unicode"/>
              </a:rPr>
              <a:t>(везикуле, макулопапуле, круст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Lucida Sans Unicode"/>
              </a:rPr>
              <a:t>у склопу дисеминоване ХСВ 2 инфекције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Lucida Sans Unicode"/>
              </a:rPr>
              <a:t>Л</a:t>
            </a:r>
            <a:r>
              <a:rPr b="1" lang="sr-Latn-CS" sz="2400" spc="-1" strike="noStrike">
                <a:solidFill>
                  <a:srgbClr val="00ff00"/>
                </a:solidFill>
                <a:latin typeface="Lucida Sans Unicode"/>
              </a:rPr>
              <a:t>езије на слузницама</a:t>
            </a:r>
            <a:r>
              <a:rPr b="1" lang="sr-C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Lucida Sans Unicode"/>
              </a:rPr>
              <a:t>(кератоко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њ</a:t>
            </a:r>
            <a:r>
              <a:rPr b="1" lang="sr-Latn-CS" sz="2400" spc="-1" strike="noStrike">
                <a:solidFill>
                  <a:srgbClr val="ff0000"/>
                </a:solidFill>
                <a:latin typeface="Lucida Sans Unicode"/>
              </a:rPr>
              <a:t>унктивитис, хориоретинитис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обично претходе знацима оштеће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а ЦНС-а</a:t>
            </a: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708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herp neonat 1"/>
          <p:cNvPicPr/>
          <p:nvPr/>
        </p:nvPicPr>
        <p:blipFill>
          <a:blip r:embed="rId2"/>
          <a:stretch/>
        </p:blipFill>
        <p:spPr>
          <a:xfrm>
            <a:off x="838080" y="5086440"/>
            <a:ext cx="2468520" cy="1771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03" name="Picture 5" descr="herp keratokonj"/>
          <p:cNvPicPr/>
          <p:nvPr/>
        </p:nvPicPr>
        <p:blipFill>
          <a:blip r:embed="rId3"/>
          <a:stretch/>
        </p:blipFill>
        <p:spPr>
          <a:xfrm>
            <a:off x="3352680" y="5116680"/>
            <a:ext cx="2727360" cy="1741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04" name="Picture 6" descr="oral herp"/>
          <p:cNvPicPr/>
          <p:nvPr/>
        </p:nvPicPr>
        <p:blipFill>
          <a:blip r:embed="rId4"/>
          <a:stretch/>
        </p:blipFill>
        <p:spPr>
          <a:xfrm>
            <a:off x="6324480" y="5029200"/>
            <a:ext cx="246852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04560" y="9144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Ране манифестације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болести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ритабилнос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летаргиј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повраћа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е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оремећај свести се брзо продуб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ује до ком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неонаталне конвулзије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промене тонуса (парезе екстремитета)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дистониј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децеребр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 ригидност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нистагмус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Lucida Sans Unicode"/>
              </a:rPr>
              <a:t>напета фонтанела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98440" y="219240"/>
            <a:ext cx="83948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0" y="9144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У деце након неонаталног период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најраниј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 знаци с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главобо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ромена понаш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ви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ш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на температу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враћ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малаксалос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ритабилност или летарг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ff0000"/>
                </a:solidFill>
                <a:latin typeface="Lucida Sans Unicode"/>
              </a:rPr>
              <a:t>За неколико дана болест прогредира појавом</a:t>
            </a:r>
            <a:r>
              <a:rPr b="1" lang="sr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фокалних неуролошких знакова</a:t>
            </a: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(који су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израженији у старије деце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)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парцијални епи напад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афаз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хемипарез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Lucida Sans Unicode"/>
              </a:rPr>
              <a:t>парезе кранијалних нерава идр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Други пратећи знаци болести: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халуцинац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утономни поремећај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знаци повећа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интракр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притиска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ремећај свести , све до ком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церебрација, услед компресије мезенцеф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обично претходи кардиореспир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аторном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застој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ЛИКВОР</a:t>
            </a: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је бистар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ротеинорахија повишена ((0.6 до 2г/л)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гликорахиј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је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нормалн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број ћелија је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50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до 1000 у мм3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углавном лимфоци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почетку болести у могу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се наћи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     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олиморфонукл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еар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К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онтролна пункција за 24-48h покаже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увек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конверзију у мононуклеарну плеоцитоз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291960" y="-30240"/>
            <a:ext cx="84013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узнемиреност или поспаност  с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развијају и неколико да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конфузија, фотофобија и хиперестез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температура, главобоља, мук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 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повраћање, укочен вра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поремећај свести, конвулзиј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фотофоб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ређе настаје застојна папила </a:t>
            </a:r>
            <a:r>
              <a:rPr b="1" lang="sr-CS" sz="2800" spc="-1" strike="noStrike">
                <a:solidFill>
                  <a:srgbClr val="00206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84250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286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ЕЕГ НАЛАЗ</a:t>
            </a: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Н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јсензитивнији тест за рано открив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фокалног карактера енцефалитис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Ј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днострана епилептиформна праж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, или ирегуларни, периодични спори, Делта талас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Промене су локализоване над фронталним и темпоралним лобусим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Б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илатералне су непово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љ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н прогностички знак.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0880" y="9144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ff00"/>
                </a:solidFill>
                <a:latin typeface="Lucida Sans Unicode"/>
              </a:rPr>
              <a:t>НЕУРОРАДИОЛОГИЈА</a:t>
            </a:r>
            <a:r>
              <a:rPr b="1" lang="sr-Latn-CS" sz="2700" spc="-1" strike="noStrike">
                <a:solidFill>
                  <a:srgbClr val="00ff00"/>
                </a:solidFill>
                <a:latin typeface="Lucida Sans Unicode"/>
              </a:rPr>
              <a:t>:</a:t>
            </a: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ЦТ и МР показују током прогресије боле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зоне см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не густин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фокални едем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тумурозне формациј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онекад и хеморагична ог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шт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08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ИЗОЛАЦИЈА ВИРУСА</a:t>
            </a:r>
            <a:r>
              <a:rPr b="1" lang="sr-Latn-CS" sz="2800" spc="-1" strike="noStrike">
                <a:solidFill>
                  <a:srgbClr val="00ff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золација вируса из ликвора је готово немогућ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Р или ЕЛИСА тестом може урадити брза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идентификација антигена ХС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Lucida Sans Unicode"/>
              </a:rPr>
              <a:t>СЕРОЛОШКИ НАЛАЗИ</a:t>
            </a:r>
            <a:r>
              <a:rPr b="1" lang="sr-Latn-CS" sz="2800" spc="-1" strike="noStrike">
                <a:solidFill>
                  <a:srgbClr val="00ff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Н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лаз специфичних ИгМ антитела 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серуму и ликвор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БИОПСИЈА МОЗГА</a:t>
            </a:r>
            <a:r>
              <a:rPr b="1" lang="sr-Latn-CS" sz="2700" spc="-1" strike="noStrike">
                <a:solidFill>
                  <a:srgbClr val="c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П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оуздан метод за брзу дијагнозу херп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. е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нцефалити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Патохистолошки се уочавају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периваскуларни инфилтрати, уз присуство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300" spc="-1" strike="noStrike">
                <a:solidFill>
                  <a:srgbClr val="0070c0"/>
                </a:solidFill>
                <a:latin typeface="Lucida Sans Unicode"/>
              </a:rPr>
              <a:t>еозинофилних интрануклеарних инклузиј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1" lang="sr-Latn-CS" sz="2700" spc="-1" strike="noStrike">
                <a:solidFill>
                  <a:srgbClr val="0070c0"/>
                </a:solidFill>
                <a:latin typeface="Lucida Sans Unicode"/>
              </a:rPr>
              <a:t>(А инклузије Cowdry-евог типа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228600" y="1295280"/>
          <a:ext cx="8458200" cy="5257800"/>
        </p:xfrm>
        <a:graphic>
          <a:graphicData uri="http://schemas.openxmlformats.org/drawingml/2006/table">
            <a:tbl>
              <a:tblPr/>
              <a:tblGrid>
                <a:gridCol w="2200320"/>
                <a:gridCol w="62578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ВИРУС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224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имфоцитни хориоменинг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ССПЕ, АРБО енц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еф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1224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БАКТЕР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бацтериум туберцулосис,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апсцес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убдурални емпијем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истериоза 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НС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ГЉИВИЦ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риптококус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Н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ардио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ис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АРАЗИ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о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с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пласма Гондии, Амебиј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АЛИГНИТ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Леукоза, ЦНС тумор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РЕБРОВАС БОЛЕ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АХ, васкуларне малформације, инфаркц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ЕНЦЕФАЛО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2240">
                      <a:solidFill>
                        <a:srgbClr val="969696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Ре</a:t>
                      </a:r>
                      <a:r>
                        <a:rPr b="1" lang="sr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ј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ов синд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2240">
                      <a:solidFill>
                        <a:srgbClr val="969696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колико постоји сум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на херпесни енцефалитис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свако фебрилно дете са парцијалним епи нападима или фокалним неуролошким знацима, уз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прогресивно погорш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е ст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све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без одлага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 треба применити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IKLOVI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дневној дози од 30мг/кг (на 8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50-100мл инфузионог расвор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току 10-14 дана.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3692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28240" y="5331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Лече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 енцефалитиса се спроводи у 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ЈИН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и обухвата</a:t>
            </a: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одржава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њ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 виталних функција</a:t>
            </a:r>
            <a:r>
              <a:rPr b="1" lang="sr-CS" sz="2800" spc="-1" strike="noStrike">
                <a:solidFill>
                  <a:srgbClr val="0070c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кардио</a:t>
            </a:r>
            <a:r>
              <a:rPr b="1" lang="en-US" sz="2400" spc="-1" strike="noStrike">
                <a:solidFill>
                  <a:srgbClr val="0070c0"/>
                </a:solidFill>
                <a:latin typeface="Lucida Sans Unicode"/>
              </a:rPr>
              <a:t>респираторн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 подршк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симптоматску терапију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антиконвулзиви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осмотерапија-кортикостероид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диуретиц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рестрикција течнос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лектролитни баланс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70c0"/>
                </a:solidFill>
                <a:latin typeface="Lucida Sans Unicode"/>
              </a:rPr>
              <a:t>енергетска надокна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sr-Latn-CS" sz="2400" spc="-1" strike="noStrike">
                <a:solidFill>
                  <a:srgbClr val="0070c0"/>
                </a:solidFill>
                <a:latin typeface="Lucida Sans Unicode"/>
              </a:rPr>
              <a:t>нег</a:t>
            </a:r>
            <a:r>
              <a:rPr b="1" lang="sr-CS" sz="2400" spc="-1" strike="noStrike">
                <a:solidFill>
                  <a:srgbClr val="0070c0"/>
                </a:solidFill>
                <a:latin typeface="Lucida Sans Unicod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04560" y="6858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МОРТАЛИТЕ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у неонаталном периоду 20-80%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слич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н је и код нелечене старије деце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Ацикловир дат у почетној фази болес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см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ује морталитет на 20-30% 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доприноси м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ој учесталости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квел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УРОЛОШКЕ СЕКВЕЛЕ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заостају у преко 50% преживели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микроцефалиј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ментална и/или моторна ретардац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пилепс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лепи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30200" indent="-2214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глувоћ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291960" y="-60480"/>
            <a:ext cx="8401320" cy="7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температу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главобољ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му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70c0"/>
                </a:solidFill>
                <a:latin typeface="Lucida Sans Unicode"/>
              </a:rPr>
              <a:t>повраћ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4"/>
          <p:cNvGrpSpPr/>
          <p:nvPr/>
        </p:nvGrpSpPr>
        <p:grpSpPr>
          <a:xfrm>
            <a:off x="4674960" y="1600200"/>
            <a:ext cx="3218040" cy="4572000"/>
            <a:chOff x="4674960" y="1600200"/>
            <a:chExt cx="3218040" cy="4572000"/>
          </a:xfrm>
        </p:grpSpPr>
        <p:pic>
          <p:nvPicPr>
            <p:cNvPr id="392" name="Picture 5" descr="Symptoms_of_Meningitis 1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3168720" cy="45720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393" name="Rectangle 6"/>
            <p:cNvSpPr/>
            <p:nvPr/>
          </p:nvSpPr>
          <p:spPr>
            <a:xfrm>
              <a:off x="4674960" y="1981080"/>
              <a:ext cx="20674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ЦН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главобољ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промена располо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4724280" y="266688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СЛУ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фонофоб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"/>
            <p:cNvSpPr/>
            <p:nvPr/>
          </p:nvSpPr>
          <p:spPr>
            <a:xfrm>
              <a:off x="4724280" y="3200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В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фотофоб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4724280" y="373356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В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укоченос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4724280" y="42670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СИСТЕМ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висока темпе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4724280" y="4800600"/>
              <a:ext cx="16002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КОЖ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петех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(менингоко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3097080"/>
                <a:gridCol w="1943280"/>
                <a:gridCol w="1657440"/>
                <a:gridCol w="1531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ТО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н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ј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овраћ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норекс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Летарг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ритабил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Главобољ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Бол у вра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нфу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Фотофоб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ипересте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228600"/>
          <a:ext cx="8229600" cy="6211800"/>
        </p:xfrm>
        <a:graphic>
          <a:graphicData uri="http://schemas.openxmlformats.org/drawingml/2006/table">
            <a:tbl>
              <a:tblPr/>
              <a:tblGrid>
                <a:gridCol w="3048120"/>
                <a:gridCol w="1863720"/>
                <a:gridCol w="1792080"/>
                <a:gridCol w="1525680"/>
              </a:tblGrid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н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јче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ца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нвулз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+</a:t>
                      </a: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ијаре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Жут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етеориз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еспираторни дистр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Ш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очен в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ernig / Bružin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пистото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70c0"/>
                </a:solidFill>
                <a:uFillTx/>
                <a:latin typeface="Lucida Sans Unicode"/>
              </a:rPr>
              <a:t>Доминирају симптоми и знац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70c0"/>
                </a:solidFill>
                <a:uFillTx/>
                <a:latin typeface="Lucida Sans Unicode"/>
              </a:rPr>
              <a:t>сепсе и шок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развој симптома траје неколико сат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(брзи пораст температуре, губитак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апетита, мука, повраћање, интракр. хипе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конвулзије су честе, а прогресив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sr-CS" sz="2800" spc="-1" strike="noStrike">
                <a:solidFill>
                  <a:srgbClr val="0070c0"/>
                </a:solidFill>
                <a:latin typeface="Lucida Sans Unicode"/>
              </a:rPr>
              <a:t>поремећај свести се брзо завршава ком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0:36:43Z</dcterms:created>
  <dc:creator>Igrutinovic</dc:creator>
  <dc:description/>
  <dc:language>en-US</dc:language>
  <cp:lastModifiedBy>Igrutinovic</cp:lastModifiedBy>
  <dcterms:modified xsi:type="dcterms:W3CDTF">2011-12-27T05:26:13Z</dcterms:modified>
  <cp:revision>14</cp:revision>
  <dc:subject/>
  <dc:title>МЕНИНГИТИС И ЕНЦЕФАЛИТИС  У ДЕЦЕ </dc:title>
</cp:coreProperties>
</file>